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205551"/>
        <c:axId val="62714401"/>
      </c:barChart>
      <c:catAx>
        <c:axId val="312055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14401"/>
        <c:crosses val="autoZero"/>
        <c:auto val="1"/>
        <c:lblAlgn val="ctr"/>
        <c:lblOffset val="100"/>
        <c:noMultiLvlLbl val="0"/>
      </c:catAx>
      <c:valAx>
        <c:axId val="627144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055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2FF7-1E80-42FD-832F-54D4813F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8AE1-0A29-4A4F-A31F-DBC6B7B2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B862-3683-4C51-8FD6-60D314933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F7D8-61AC-419D-89BC-74E8AE90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9C75-820F-430B-B040-AA1E2567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E246-746F-4782-B59A-56ED1893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0314-0AD5-4712-B10A-57F5FD3C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28F6-26DB-41DE-A37E-D4015099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2893-3E9F-40C6-9893-5D1EB31E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DD74-94C2-4359-86FE-64979764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C2E7-A5D1-455F-9BCB-FF8421F7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FE64-E88F-43B3-AF35-D5272426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B9209-D6FB-470A-8F8D-A23F005D12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