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71353"/>
        <c:axId val="68971018"/>
      </c:barChart>
      <c:catAx>
        <c:axId val="40071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71018"/>
        <c:crosses val="autoZero"/>
        <c:auto val="1"/>
        <c:lblAlgn val="ctr"/>
        <c:lblOffset val="100"/>
        <c:noMultiLvlLbl val="0"/>
      </c:catAx>
      <c:valAx>
        <c:axId val="68971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71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68F-6224-415F-A33E-4490B664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28A-53A3-4E66-8EB3-FE097FF6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3AB-BCCA-42E0-BB60-E9562E91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473-A6A8-4FFD-9371-1491DEC3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A5A-132D-418E-87F2-C16C3AEC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D0C-E083-4D41-8F1F-4A76FAC6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0F1-236C-43F6-BCA7-15E215C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44C-F1BC-4DB4-9FC8-F7F00F8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537-9C32-4B74-8385-4B182B2A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72E-D857-42DB-9D3B-205B95E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EF7-73E3-426B-9E32-323154B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64C-18A4-42C4-B0F8-6936801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98B8F-8614-4943-AD43-85BF63738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