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41807"/>
        <c:axId val="65480868"/>
      </c:barChart>
      <c:catAx>
        <c:axId val="34241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80868"/>
        <c:crosses val="autoZero"/>
        <c:auto val="1"/>
        <c:lblAlgn val="ctr"/>
        <c:lblOffset val="100"/>
        <c:noMultiLvlLbl val="0"/>
      </c:catAx>
      <c:valAx>
        <c:axId val="65480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41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454-FA44-478D-AB31-DA7F3D6E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A9B-8949-409D-9490-FB38ECE4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D6E-5939-49B0-A487-9BBCB8CD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139-4D67-4185-853C-8AAD502B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00B-4432-41E8-BB83-3A5B9711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653-E180-4625-863D-5496C01B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384-4D2F-406D-A0EF-10125600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01C-5EB1-46F3-AF6C-C8392B41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00F-890F-46ED-9BE0-3B868C9D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6EA-229F-44A3-84DA-242CF795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C25-35AA-48B4-A48D-C30A3D71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4D3-F580-4C0E-B825-0BF498F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2C426-A23C-457A-A3F2-7EB708F4BE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