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06760"/>
        <c:axId val="22934998"/>
      </c:barChart>
      <c:catAx>
        <c:axId val="42606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34998"/>
        <c:crosses val="autoZero"/>
        <c:auto val="1"/>
        <c:lblAlgn val="ctr"/>
        <c:lblOffset val="100"/>
        <c:noMultiLvlLbl val="0"/>
      </c:catAx>
      <c:valAx>
        <c:axId val="22934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06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87CE-2AF7-4E3C-BD5E-CB612622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BCD-42F5-4918-BB5A-338070AC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7AE-E6B4-48E1-9F2C-05ECC913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FB2-16AC-4042-AE4C-22C60C9E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5E0-CE12-4EFA-A887-E948686D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6DE-F4A7-43F8-A0C2-78C5A124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5B3-C8B5-41DF-9A43-91A2F316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1BA-BA74-445B-BABA-211F7A75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791-43B3-4887-A87F-4D190247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1D9-62E2-423B-8AD3-039C00AA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8FC-9C11-4D1B-ADA1-659E6411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F0B-024E-4EB6-94E3-FFACD657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E3894-C165-4511-B56C-C4E17C8C22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