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24151"/>
        <c:axId val="33048284"/>
      </c:barChart>
      <c:catAx>
        <c:axId val="75124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48284"/>
        <c:crosses val="autoZero"/>
        <c:auto val="1"/>
        <c:lblAlgn val="ctr"/>
        <c:lblOffset val="100"/>
        <c:noMultiLvlLbl val="0"/>
      </c:catAx>
      <c:valAx>
        <c:axId val="33048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24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436-84C9-46B4-A949-ED0EAA5B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2D8-5048-4A28-837C-02215BF0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F33-FC37-413B-A838-096DA19E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DEC-76F1-4906-B77A-B8B4C3DF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7B3-18AE-489F-9102-BF311898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D42-4A4A-47F4-B9ED-27E2DC2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74E-660D-4418-944F-F08AE9A2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E61-4194-4F4D-BC1D-A6DE69F1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010-3463-4E01-893A-183DE1E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99A-89E0-4CD5-8BD8-F681A41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023-94E3-424C-B666-E80481D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31D-2B6F-4C6F-9FF4-1D17679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59504-C37A-4B21-B3FB-A9A919D4D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