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38861"/>
        <c:axId val="77258817"/>
      </c:barChart>
      <c:catAx>
        <c:axId val="69938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8817"/>
        <c:crosses val="autoZero"/>
        <c:auto val="1"/>
        <c:lblAlgn val="ctr"/>
        <c:lblOffset val="100"/>
        <c:noMultiLvlLbl val="0"/>
      </c:catAx>
      <c:valAx>
        <c:axId val="77258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8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A37-B33B-45C9-A8E8-CD48436A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57A-67B7-4190-BA95-B15F3B0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A34-E040-43C4-9782-2A8ACEA2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674-AE48-4A46-B290-5ABCD4BA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12F-7BD7-432F-9022-7F6F60F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8B7-967E-4E39-BFB7-C904D2E3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E01-FEBC-4ACB-879C-013B5F4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C3A-A8A0-4BF0-B817-B5928A25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875-E9FD-4B23-8A8E-3004E57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255-F9AC-4122-967E-CB9B6ED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BCC-8B60-413E-AF8E-7EDE095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B78-5CE3-433C-86F3-17107F7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79251-C9B4-4657-907E-799AC2593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