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83384"/>
        <c:axId val="65514057"/>
      </c:barChart>
      <c:catAx>
        <c:axId val="31783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14057"/>
        <c:crosses val="autoZero"/>
        <c:auto val="1"/>
        <c:lblAlgn val="ctr"/>
        <c:lblOffset val="100"/>
        <c:noMultiLvlLbl val="0"/>
      </c:catAx>
      <c:valAx>
        <c:axId val="65514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83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806-7D0F-4BA5-850A-60E084C4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8F5-D817-4DA6-BF6B-40388DF5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C1B-E465-48E6-9B00-AA8AF5E2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37F-5276-496E-98D4-5FC75E9B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CDD-8D3A-435D-A785-13C04C73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D5F-B63C-4128-9CDF-ED662E45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A11-01E7-4B24-B1FA-1E263BA0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BB5-3B07-47E7-85B1-9C7FFB7E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F21-6A71-4987-A196-EE5D9EEF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608-7381-4706-8BB2-CA20F9E5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EFA-9197-4EFF-99D5-91C7CB80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8299-8691-49E7-93C8-7B67A54A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C8962-2D40-49B1-8BF2-F045824EF4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