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2167"/>
        <c:axId val="28573271"/>
      </c:barChart>
      <c:catAx>
        <c:axId val="8022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73271"/>
        <c:crosses val="autoZero"/>
        <c:auto val="1"/>
        <c:lblAlgn val="ctr"/>
        <c:lblOffset val="100"/>
        <c:noMultiLvlLbl val="0"/>
      </c:catAx>
      <c:valAx>
        <c:axId val="28573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2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42B-82CC-4500-A39F-E500F1E6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6AF-C679-4D97-9FC6-1FFDBB34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804-BB67-4F6B-8A91-1924B832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95F-E1A9-4B8C-A5C0-289F74E2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4DD-254B-4B4E-9AE5-2BC5B733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B89-5E5F-47D1-A659-1FAFC24E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8F1-3AC2-44CD-AB09-BBBE9405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A49-D6C2-439B-8740-537C6A7C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A9A-1741-4677-816D-2A4D8A1B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8B4-BC29-4C14-8C97-2C4D2891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59D-C0F2-49B6-8C25-47445D29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BE1-91F5-40C8-9776-4DA30D80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10D2D-1063-461D-AF23-BECB9D70E4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