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82096"/>
        <c:axId val="85285148"/>
      </c:barChart>
      <c:catAx>
        <c:axId val="923820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85148"/>
        <c:crosses val="autoZero"/>
        <c:auto val="1"/>
        <c:lblAlgn val="ctr"/>
        <c:lblOffset val="100"/>
        <c:noMultiLvlLbl val="0"/>
      </c:catAx>
      <c:valAx>
        <c:axId val="85285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20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5A8-C3FE-4F53-B23F-C69F716A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2C2-4C62-4678-8622-68A0C611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DB7-6770-45BB-AE3F-C215ABCA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9A5-D099-4AAA-8BCB-47F5B8B1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41C-6415-4772-99A8-BA84265D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869-AD70-4205-8D7C-9C8D9CE7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D59-E430-4D65-9435-55FDFD16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7C4-9E00-48BD-B257-37649E2D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61E-8859-4CDA-8237-7A34DFA8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DCB-035B-44E3-85FA-33245B7F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1F8-F7B3-41CB-8B7C-587A4D18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0F0-1FF6-4813-A524-683BC653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6EA17-7E73-4427-B794-98BE86CB1E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