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721326"/>
        <c:axId val="11133872"/>
      </c:barChart>
      <c:catAx>
        <c:axId val="547213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33872"/>
        <c:crosses val="autoZero"/>
        <c:auto val="1"/>
        <c:lblAlgn val="ctr"/>
        <c:lblOffset val="100"/>
        <c:noMultiLvlLbl val="0"/>
      </c:catAx>
      <c:valAx>
        <c:axId val="111338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213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34C6-E12E-4DF1-BABC-A8F269C0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5F47-AA07-4380-B46B-9BFD5E39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973-C570-4EA7-A039-16048484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8256-AAF7-405B-9A21-B886C150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B7C5-FD32-4EA4-928A-6752D296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D67F-D549-4BC6-9485-3ECAE373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ED66-2336-4BD5-9B95-7F6ECB73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7CF-70B3-4B97-83B0-EA5B96A4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3242-BBAC-4C35-939C-B20EA08F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6BF9-3742-4B4E-A12B-14F6557F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745E-893D-453E-A901-DE8BA62C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C703-FEFD-4124-822B-52653D0B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9D987-1E3D-4E4D-9CDD-1F28F05739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