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291140"/>
        <c:axId val="25045259"/>
      </c:barChart>
      <c:catAx>
        <c:axId val="342911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45259"/>
        <c:crosses val="autoZero"/>
        <c:auto val="1"/>
        <c:lblAlgn val="ctr"/>
        <c:lblOffset val="100"/>
        <c:noMultiLvlLbl val="0"/>
      </c:catAx>
      <c:valAx>
        <c:axId val="25045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911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E1FC-8AC2-49B1-9C7A-CFA42A9D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4E5A-465C-4FF5-AD2B-0EF89522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B9B-EC62-4A0A-8117-BF930A0B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247-C51F-4B30-9C22-16038F81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4D1-4B70-487E-8D06-B87F44A9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A20-40E1-489B-BCAB-60FC53EC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272-BF8C-417B-BA4F-3748A375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EBC2-85E6-49A2-A03B-EEB9DF43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D3D-0CC9-43EF-A37F-2DA554C2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CB93-B256-41EB-A1B0-E99E9CAA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2C3E-0760-4051-BF4D-AB7F1164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93E-F65A-491F-A9B3-D7E1FDAB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ED849-544C-426C-A922-BFDE304DC0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