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19891"/>
        <c:axId val="51053230"/>
      </c:barChart>
      <c:catAx>
        <c:axId val="99519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53230"/>
        <c:crosses val="autoZero"/>
        <c:auto val="1"/>
        <c:lblAlgn val="ctr"/>
        <c:lblOffset val="100"/>
        <c:noMultiLvlLbl val="0"/>
      </c:catAx>
      <c:valAx>
        <c:axId val="51053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19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0A3-62B6-4FBF-ACC0-74118C2E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6E1-9852-4ED8-9375-FFDEAF5A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9DD-CF22-4E3B-A101-B46D2399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68C-F2C2-4609-9DC5-CF924BCF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CC9-A622-4488-8E77-3C02536D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7EB-B697-4D3F-B0F1-3C05565C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E0F-AFB8-4C75-BADB-BF99C955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691-3486-4795-8E44-5970E87B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89D-B234-4582-BD24-C487DFD9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A18-65A0-49C4-BCB0-BC612341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499-3662-4CB8-B2E0-3EF77D6C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BF3-1918-4F01-B084-70A61091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08158-14D0-411E-A679-7FD3BFDD2B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