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37723"/>
        <c:axId val="60624314"/>
      </c:barChart>
      <c:catAx>
        <c:axId val="15937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24314"/>
        <c:crosses val="autoZero"/>
        <c:auto val="1"/>
        <c:lblAlgn val="ctr"/>
        <c:lblOffset val="100"/>
        <c:noMultiLvlLbl val="0"/>
      </c:catAx>
      <c:valAx>
        <c:axId val="60624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37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6F0-618E-4DA2-BF22-0404D867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A55-859A-414C-A1A5-C1B5966E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A4A-CB54-4700-997E-E976AA24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FC7-C712-44FF-B54D-5F155997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C4C-084D-46EC-88F7-6D60BA4D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302-F169-46A2-9E9B-74F61A50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C73-58E5-43F3-BCCC-19769001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5D0-771F-43A1-9060-273A99E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63B-BD47-4547-A297-7FA5CE94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C4B-A722-44A4-8DC6-4432D4D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875-A09C-46C8-B08E-0BC26E1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9A0-1D80-4B8A-9F30-0B42D94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898F4-062A-401A-9E53-B107347A81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