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8349158"/>
        <c:axId val="85992719"/>
      </c:barChart>
      <c:catAx>
        <c:axId val="4834915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992719"/>
        <c:crosses val="autoZero"/>
        <c:auto val="1"/>
        <c:lblAlgn val="ctr"/>
        <c:lblOffset val="100"/>
        <c:noMultiLvlLbl val="0"/>
      </c:catAx>
      <c:valAx>
        <c:axId val="8599271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34915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91390-EAB6-459C-B6F8-3D29A90AA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0AF49-3DA8-48FD-8D98-418C1B839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665E8-848B-4D53-9640-2BB575454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2DB1E-CF86-49E4-9161-F048F41BD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5FFE1-285F-4A15-A501-E96C6F3C7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693D4-6FB4-4963-AD7A-F139DBB26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2A244-D043-4D7E-8E63-624AA622D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9EFDC-46C4-466A-A74E-78F468398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73729-B581-43C7-B4A8-1E10D1F94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BC8A0-634F-407B-9D76-8D212D24B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8F2DA-809F-4285-883F-7051F3C1E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79A1E-95B8-48A2-82B9-F0F0FDC82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FB9958-68D7-43A2-B9DD-E36E3A8A85E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