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75045"/>
        <c:axId val="25514212"/>
      </c:barChart>
      <c:catAx>
        <c:axId val="84075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14212"/>
        <c:crosses val="autoZero"/>
        <c:auto val="1"/>
        <c:lblAlgn val="ctr"/>
        <c:lblOffset val="100"/>
        <c:noMultiLvlLbl val="0"/>
      </c:catAx>
      <c:valAx>
        <c:axId val="25514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5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04D-9F1A-478F-8833-F56036A9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CF3-9EED-464B-8BD9-05DBF309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880-7A48-4987-A7C6-5522B565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010-386A-4B1D-A477-05D75E08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109-F5CE-45C4-8362-F4878DE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B65-5B75-4115-A0F5-030500E8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16A-D47C-4C90-A1EE-57BB8D54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351-FB08-4913-AC25-05C0B13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71F-554C-43AD-A04C-C19A5C0B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256-374C-4882-8F76-87C0311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E6B-DF9B-4A52-9F9E-38E7D72B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29A-27F7-4FD1-9C01-172D618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19F89-361F-4439-8BCF-1ECDF9256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