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61992"/>
        <c:axId val="36140612"/>
      </c:barChart>
      <c:catAx>
        <c:axId val="75861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40612"/>
        <c:crosses val="autoZero"/>
        <c:auto val="1"/>
        <c:lblAlgn val="ctr"/>
        <c:lblOffset val="100"/>
        <c:noMultiLvlLbl val="0"/>
      </c:catAx>
      <c:valAx>
        <c:axId val="36140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61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D2C-0C7B-45C4-A03F-A9BDBDA4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FC91-A799-4742-AE11-EA032F7B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5A0-5675-4DC6-A98E-268E8A02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EA0-0981-427A-8C3D-EF0684C8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6439-61C9-4E1B-A270-83599A9A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BD0-E74D-488E-83E5-26035615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50E-87F1-4FD2-9F58-F67C9DDA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088-F2A3-4A11-BD92-38598D8B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0D6-C661-4AA4-AD27-FC2804C3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C143-C444-4251-B842-50E40946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4E6-3F4E-4BF6-A654-CE3F585B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B2D-F985-44CC-B5E9-67159B9F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A1772-7B69-49DE-87AA-9DCF83CB58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