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864799"/>
        <c:axId val="13807064"/>
      </c:barChart>
      <c:catAx>
        <c:axId val="968647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07064"/>
        <c:crosses val="autoZero"/>
        <c:auto val="1"/>
        <c:lblAlgn val="ctr"/>
        <c:lblOffset val="100"/>
        <c:noMultiLvlLbl val="0"/>
      </c:catAx>
      <c:valAx>
        <c:axId val="138070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647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9898-8821-420C-A2BB-FCA0B493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32F0-44E9-4F99-92C8-7535781F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2FE9-E181-4E4D-A66F-D7C6E027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4386-C15C-4F50-B173-366203B8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8DF-C5B5-4DDE-A82C-F1BCA842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3287-EF86-40E4-9598-C79386A3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5B16-EACD-48DC-9633-973EB088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FE0-A506-4805-823B-A2ACDED8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FF7-D9DA-4C09-9710-E0A93390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DCE7-6852-4D02-80C4-C1BF2946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C3B4-CED1-442F-9FC1-C7E1347D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74F4-2B35-4B6D-93F4-119CCEAD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88E99-5521-4EF3-91CB-91FF6761E1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