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20334"/>
        <c:axId val="62300047"/>
      </c:barChart>
      <c:catAx>
        <c:axId val="26520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00047"/>
        <c:crosses val="autoZero"/>
        <c:auto val="1"/>
        <c:lblAlgn val="ctr"/>
        <c:lblOffset val="100"/>
        <c:noMultiLvlLbl val="0"/>
      </c:catAx>
      <c:valAx>
        <c:axId val="62300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20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0B7-ADA9-41F9-A520-98704E53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1E9-238E-4CFC-91BA-00A932BC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AB2-4407-4824-86CB-A22D37F9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7E0-BD00-4425-A070-E426FE63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ED2-C5D1-4A6A-AD65-1B26AE29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614-1B03-46E8-A306-E0D9271A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E68-D745-4933-973F-CDD7B63B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D5E-8D9A-4B23-8ED4-3948D92E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A3C-7FEB-46DC-898E-39613A1D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804-D58B-46D1-ABA4-0BD28EF8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193-82B5-4FAC-A861-4CD7C560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C9B-9A30-4964-8E2F-4B9B7498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DF6B8-310C-4C96-9204-4EBA65C04F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