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7908"/>
        <c:axId val="94440984"/>
      </c:barChart>
      <c:catAx>
        <c:axId val="2287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0984"/>
        <c:crosses val="autoZero"/>
        <c:auto val="1"/>
        <c:lblAlgn val="ctr"/>
        <c:lblOffset val="100"/>
        <c:noMultiLvlLbl val="0"/>
      </c:catAx>
      <c:valAx>
        <c:axId val="94440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7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753-3A52-4AE8-BD71-A455BA1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945-7BAC-4784-8D4D-CB80199A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BA1-4F03-4BD3-B8C0-459FFFD7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197-8C6D-409D-982A-62999D88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DA7-9B47-4CC2-9896-7CD34E9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ECF-8669-42D3-A3B6-ABEB483F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5AF-3C36-41A6-99C1-9323E1E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716-AFB0-464A-8901-BB0A6F6C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569-3883-49E7-A322-2487D070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FD2-3E38-4857-9F4D-DCA3E13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0B2-CF32-4B22-BE28-545F3E22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D5A-0858-4D3B-91A7-1EF628E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99C2-5682-4808-B51C-D0D1442EA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