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663078"/>
        <c:axId val="83359677"/>
      </c:barChart>
      <c:catAx>
        <c:axId val="126630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359677"/>
        <c:crosses val="autoZero"/>
        <c:auto val="1"/>
        <c:lblAlgn val="ctr"/>
        <c:lblOffset val="100"/>
        <c:noMultiLvlLbl val="0"/>
      </c:catAx>
      <c:valAx>
        <c:axId val="833596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6630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3B60-C9D4-4AE0-ACB8-907D2E648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C08E-983C-4804-8E95-B44E45151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C17E-5F5C-4145-AD0E-74F1C0666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9E1D-6E93-49EA-9AE6-F6B73C28D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21C8-DD1D-46FE-8C54-6C03D7421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BECA-D778-4C62-93F1-8540617B3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4422-3299-43AF-AC1C-0F179E49D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C580-6740-4B40-B52C-854DD5EC6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8531-C6E6-49C9-BEE4-D57DCC527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9FA5-C305-4299-B7A3-135D25E1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743B-9900-49C9-B829-29597A71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2A0A-E898-4071-A449-6F64B943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BCAA43-7703-42C1-9018-01C42583404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