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41598"/>
        <c:axId val="39143495"/>
      </c:barChart>
      <c:catAx>
        <c:axId val="27041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43495"/>
        <c:crosses val="autoZero"/>
        <c:auto val="1"/>
        <c:lblAlgn val="ctr"/>
        <c:lblOffset val="100"/>
        <c:noMultiLvlLbl val="0"/>
      </c:catAx>
      <c:valAx>
        <c:axId val="39143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41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660-1153-4D19-AB06-21CF582D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2BF-F066-4B2D-B025-22ADBB19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1D3-8EE7-4781-A8F7-39E0EEA2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EA5-81B6-4D21-B412-EF3F59D9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855-ABC5-4D0B-853C-7CA25361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8BD-B51E-42A2-8569-6B998B6F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F3B-9455-4BB2-9DEB-3C177500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692-86A5-417D-B87A-AA60C8AC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20C-C5A6-4C66-9FE7-90121456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91E-36F0-480B-A315-C055BBA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4A8-4FC5-446F-9172-4E17C034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CC1-F706-48A4-8360-C5847724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963E6-15BC-4C36-AC6D-06B654C5EC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