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92937"/>
        <c:axId val="41955509"/>
      </c:barChart>
      <c:catAx>
        <c:axId val="69792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55509"/>
        <c:crosses val="autoZero"/>
        <c:auto val="1"/>
        <c:lblAlgn val="ctr"/>
        <c:lblOffset val="100"/>
        <c:noMultiLvlLbl val="0"/>
      </c:catAx>
      <c:valAx>
        <c:axId val="41955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92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C95-8826-4046-AE2A-F50B5EC9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69D-8D8D-4B67-9EA3-7BE82696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540-9606-4D3F-A1EA-9849AB06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A03-1D0C-4C81-9F18-033C311E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DF7-100F-4B93-80BD-A1814FD0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463-53AF-4978-9B18-C3916BD0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EDA-A956-4BF9-883D-B908E681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604-23A0-44F4-AF5B-7335AB49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80A-1D50-4043-B3FD-EABBC229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01F-7E85-4F0F-8FE0-07FFBCE0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0FD-2FC7-496C-9211-9E367F76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3F0-235B-4BAF-B1CA-6920B79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B660C-26F4-43B9-92D9-BFF32763C1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