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965009"/>
        <c:axId val="9235907"/>
      </c:barChart>
      <c:catAx>
        <c:axId val="81965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5907"/>
        <c:crosses val="autoZero"/>
        <c:auto val="1"/>
        <c:lblAlgn val="ctr"/>
        <c:lblOffset val="100"/>
        <c:noMultiLvlLbl val="0"/>
      </c:catAx>
      <c:valAx>
        <c:axId val="9235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65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35A-2415-4FB3-A004-96505CA0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159-70A5-4DAB-ABAF-1DA842CF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4B6-854D-40E9-BC6A-5A039A94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8C70-9F2B-407C-81F3-9809C0FE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234-E716-4B7D-9389-5E8F2CA5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6A4-934D-4874-B9FE-C6D7ADAD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16A-7E31-4EC1-97A5-3A1F4420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EF7-D44E-4F92-8005-7A40F739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3A22-EB3B-4D88-956B-CEC27DA8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89B-3AED-4A4E-9458-B0D5D4ED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DD3-3C63-4C86-B870-A61100EB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1D1-51DB-4EFA-9133-638770ED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39570-BE45-442E-B80E-48E5B90124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