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75132"/>
        <c:axId val="75105543"/>
      </c:barChart>
      <c:catAx>
        <c:axId val="29075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5543"/>
        <c:crosses val="autoZero"/>
        <c:auto val="1"/>
        <c:lblAlgn val="ctr"/>
        <c:lblOffset val="100"/>
        <c:noMultiLvlLbl val="0"/>
      </c:catAx>
      <c:valAx>
        <c:axId val="75105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75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BF2-7B95-4708-AE2F-5B95B0F7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D21-F890-46E8-87AC-5539F5EB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663-22C5-4425-884E-AC843FA8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8B7-45B2-4C3F-B196-920695F3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253-95A0-43BB-BF5F-125768D3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C6B-60F5-42EA-9C94-DA74432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8C0-192F-499A-AF56-B93C6D1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2F1-C774-4EA9-A5D4-9F39D66C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37B-5366-44E7-B3ED-E46B5D2D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A24-D8E1-4F86-80B1-B8E32033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06F-6159-4760-B56C-96B962E7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869-CEA2-4CB9-9D3E-8E0BE858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74CC-A301-48D4-B82A-A5700AC31B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