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595651"/>
        <c:axId val="6277591"/>
      </c:barChart>
      <c:catAx>
        <c:axId val="755956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7591"/>
        <c:crosses val="autoZero"/>
        <c:auto val="1"/>
        <c:lblAlgn val="ctr"/>
        <c:lblOffset val="100"/>
        <c:noMultiLvlLbl val="0"/>
      </c:catAx>
      <c:valAx>
        <c:axId val="62775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5956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3A8F-B69C-4064-95F8-9D12BDA7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2711-C96F-4829-AAC1-F252077D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BE20-EBEF-4831-9FE2-BE08152A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F720-D48E-4131-892E-DE00EDF7B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64B6-C4AA-47D8-9EA1-3F0C74DE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BAFC-C828-412A-A4AC-46E543B0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1F90-3280-452A-B2E5-0E7F8595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266C-1BB6-448D-A309-2A5D304FB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83B-1167-4D26-B6EF-8574BA5F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3C22-2D00-47CC-84EB-378F60C87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C9EC-CE6C-4CB8-953A-4D2FCF0E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87E9-599F-4741-8F89-970393A5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5597F-E278-4D21-AA41-AB8AA29EA17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