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4840"/>
        <c:axId val="18741830"/>
      </c:barChart>
      <c:catAx>
        <c:axId val="38848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41830"/>
        <c:crosses val="autoZero"/>
        <c:auto val="1"/>
        <c:lblAlgn val="ctr"/>
        <c:lblOffset val="100"/>
        <c:noMultiLvlLbl val="0"/>
      </c:catAx>
      <c:valAx>
        <c:axId val="18741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48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634-510A-4E54-B6B5-557C7251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471-896D-4241-B7DA-CECF2253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348C-760A-4ADE-B10D-F501AE6A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A22-6880-4C82-85DE-4CF0AA81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B4B-3347-4B18-9930-558D5C3F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393-7E35-4AEF-A7D0-A008E9A7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52A9-FEB0-4640-8E7B-573C3C3E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1EC6-0175-4615-9120-62E71BD8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325-582F-4351-A72D-8885A083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B49-4012-45B9-991F-34A3EBEF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6EDD-D003-4984-9CD8-C252BC22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A045-DE30-4052-A9BA-76EE1263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1C095-F03D-46CB-9EEC-26D6D6C9C4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