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06647"/>
        <c:axId val="21677238"/>
      </c:barChart>
      <c:catAx>
        <c:axId val="51306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7238"/>
        <c:crosses val="autoZero"/>
        <c:auto val="1"/>
        <c:lblAlgn val="ctr"/>
        <c:lblOffset val="100"/>
        <c:noMultiLvlLbl val="0"/>
      </c:catAx>
      <c:valAx>
        <c:axId val="21677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06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33C-F82C-4E9A-B0E4-311EBBEB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496-C451-4585-952B-355CEA63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5C6-8165-4085-BF04-94BE1D3F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67B-7CEC-48C0-9A10-649F881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DA2-C871-4CD4-B659-E133636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02D-0E09-4F38-8CC7-56B9710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373-05E7-4682-B0A6-0702FCEC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276-B604-48D6-AC40-58BFB3A8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D36-C401-490C-93FB-22759103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EDA-CFB8-480A-A5F2-290FC6B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6DB-CD31-419D-8544-8BE9460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5F0-F267-4947-8643-8B7E2DDD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2A551-A5CC-4FF1-8C5F-21E6779CA3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