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68814"/>
        <c:axId val="13976465"/>
      </c:barChart>
      <c:catAx>
        <c:axId val="777688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76465"/>
        <c:crosses val="autoZero"/>
        <c:auto val="1"/>
        <c:lblAlgn val="ctr"/>
        <c:lblOffset val="100"/>
        <c:noMultiLvlLbl val="0"/>
      </c:catAx>
      <c:valAx>
        <c:axId val="13976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688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D24-3BD4-4C23-A24A-380A4FD7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73E-BDD9-4365-8EBB-A6C46CF8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D3B-D65E-499F-8AAC-C256ABB1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467-0809-4918-B75E-4D81149D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300-1357-40C1-A19A-4EA8552A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E6A-2D78-4D4D-AA63-E97DF93C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4A2-923C-4891-9F89-3084BE98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DB4-4302-4D53-ADCB-129C83E2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FD8-AFAE-4409-B2D8-DFB6BEFF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4D6-0983-4FE2-A405-7C8C1E5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199-1F5B-4853-8FCD-8D1D40C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F7BC-46B8-401E-8285-6B19441C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CE143-38BC-46D9-88A9-A1247DE232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