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55261"/>
        <c:axId val="54796670"/>
      </c:barChart>
      <c:catAx>
        <c:axId val="224552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796670"/>
        <c:crosses val="autoZero"/>
        <c:auto val="1"/>
        <c:lblAlgn val="ctr"/>
        <c:lblOffset val="100"/>
        <c:noMultiLvlLbl val="0"/>
      </c:catAx>
      <c:valAx>
        <c:axId val="54796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552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C9C-4C15-4044-9F43-4BC651EC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A541-DE4A-4C0B-81E0-CF590FA7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CC0-14F1-4C5F-B190-BB062D33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EF1-0EDD-43EF-9AD6-277BFB390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3F5-E9D6-4317-977E-1D9B72F1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C610-A461-4FE0-8C75-2AA6503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C8B-2C39-4D68-BCB4-35E63417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070-0EAF-4905-864B-CCF4B40D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1EE1-AAD5-424C-A982-693CB05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B26-C0A9-40E4-8FA2-04DD07E4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64C-2399-41CA-BC90-F0B67E1F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9855-8821-4E47-9B27-FF1CDC15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942FE-8459-47DC-8342-EBC98649A3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