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8219303"/>
        <c:axId val="62856042"/>
      </c:barChart>
      <c:catAx>
        <c:axId val="8821930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856042"/>
        <c:crosses val="autoZero"/>
        <c:auto val="1"/>
        <c:lblAlgn val="ctr"/>
        <c:lblOffset val="100"/>
        <c:noMultiLvlLbl val="0"/>
      </c:catAx>
      <c:valAx>
        <c:axId val="6285604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21930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1EDA-3C85-4971-9AA5-000B321FF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1DBC-B6F5-49E3-8DE7-595DAC065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0159-FE35-471F-9DC8-3A8421CF4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0B7E-A707-435C-9E2C-7ADEE371B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18B6-5094-4929-9FEC-752F4043B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A5B2-2F42-4A3E-993F-14C357FBC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C4C2-4DFF-4D1C-9F41-432C95545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9E3F-D7EC-4FE4-BCE7-D4B08B35C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4275-CF43-4546-AC5E-6D0EB2083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4CEE-9770-42C2-BEEE-C2A050799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F6F1-593C-4956-BF57-7DFCD94C5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860B-2995-4F5E-9E52-14994597F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93F899-3D31-46D1-8E05-9A4282CD820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