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2426"/>
        <c:axId val="60147798"/>
      </c:barChart>
      <c:catAx>
        <c:axId val="2962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47798"/>
        <c:crosses val="autoZero"/>
        <c:auto val="1"/>
        <c:lblAlgn val="ctr"/>
        <c:lblOffset val="100"/>
        <c:noMultiLvlLbl val="0"/>
      </c:catAx>
      <c:valAx>
        <c:axId val="60147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2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00D-6ECE-47EF-8496-CCDD531B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80F-2919-4274-A8AC-56E8B9C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0DB-C06C-4E2A-AF41-24FC0706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191-BC71-4EE5-8C37-21B44C71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A67-B7FD-4C52-AF73-8DB6DD0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68E-1ADD-4E0B-A91D-312F11D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128-A13A-4A03-8E7E-3CD2C09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B30-3C7B-4B0F-8282-9614A93F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703-5A35-4130-8D89-A3A5457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016-627D-4FE9-9BD3-0D367F8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CAE-4C9A-4072-9F60-674E6E1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325-BF3A-4448-8B91-F2B5593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E45BA-DBAC-45FC-87BC-A1709E4EA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