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90632"/>
        <c:axId val="42313293"/>
      </c:barChart>
      <c:catAx>
        <c:axId val="87390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3293"/>
        <c:crosses val="autoZero"/>
        <c:auto val="1"/>
        <c:lblAlgn val="ctr"/>
        <c:lblOffset val="100"/>
        <c:noMultiLvlLbl val="0"/>
      </c:catAx>
      <c:valAx>
        <c:axId val="4231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90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582-9316-45BF-ABDF-EEC9271E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533-6CDB-45B6-9286-F0C414B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A2F-EE66-4179-B421-C9187E25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070-051B-4ADE-8DB4-6998C353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EAB-75B4-4E2E-9CA6-61FB0631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A4F-41CD-4AF2-BB3C-979EA99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E52-8754-46CF-9FB5-85D4C52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1A5-CB4A-4D31-B33D-C25B489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AB4-863B-4774-8217-0533C67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682-07D0-43B0-8221-670277C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8B2-A9FB-481A-A903-21A658E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332-8A4B-465C-A54A-A67C785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25362-3204-43B5-B946-34813B6F50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