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06946"/>
        <c:axId val="56475545"/>
      </c:barChart>
      <c:catAx>
        <c:axId val="63806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75545"/>
        <c:crosses val="autoZero"/>
        <c:auto val="1"/>
        <c:lblAlgn val="ctr"/>
        <c:lblOffset val="100"/>
        <c:noMultiLvlLbl val="0"/>
      </c:catAx>
      <c:valAx>
        <c:axId val="5647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6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CC3-F55A-441F-8633-D1BF1C0C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A0C-CBAA-40CB-8EC9-B7BE152B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648-868D-4227-9571-558FA658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A9F-5373-4D62-BC32-C9627892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4B8-6578-4792-A8A0-374842B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9F1-2634-474B-815C-435E3881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607-1C01-40A5-9B30-2DCF9693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73B-A996-4BDA-9D3E-7DB11285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E10-F0F0-425A-A16B-2C28ABA6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D6A-CA22-47FA-BA31-634F2EE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AF9-2176-42CF-ACF3-2B22A09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37D-0B22-4DE3-B922-6EDDF82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926AA-B257-4CC0-B2C5-16F6570475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