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71513"/>
        <c:axId val="80817743"/>
      </c:barChart>
      <c:catAx>
        <c:axId val="54371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17743"/>
        <c:crosses val="autoZero"/>
        <c:auto val="1"/>
        <c:lblAlgn val="ctr"/>
        <c:lblOffset val="100"/>
        <c:noMultiLvlLbl val="0"/>
      </c:catAx>
      <c:valAx>
        <c:axId val="80817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71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63A-E906-4CDB-AC55-D167DC88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BFF-B1C1-4B12-92D6-2CC94FA4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4D5-B10F-419A-A5C7-DA506808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7EC-8D07-4F91-890A-58E5AD33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3AA-309B-4E3E-8E37-52A55135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935-98C9-4230-B59A-B2ABE8AC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DFE-8159-4EFE-B5B8-1A6560FF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929-5B7E-46D5-B733-81902692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3C3-FFD7-4FC9-9254-7DD02AD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C95-AD1A-4B15-BEBE-B0B3CBC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3F6-BBF5-4085-8F25-7818E63D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36B-0ED9-4D53-B9F4-7333DD9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D56EF-C8EF-42F3-9687-C083062F3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