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695018"/>
        <c:axId val="5495776"/>
      </c:barChart>
      <c:catAx>
        <c:axId val="506950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5776"/>
        <c:crosses val="autoZero"/>
        <c:auto val="1"/>
        <c:lblAlgn val="ctr"/>
        <c:lblOffset val="100"/>
        <c:noMultiLvlLbl val="0"/>
      </c:catAx>
      <c:valAx>
        <c:axId val="54957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950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AB8C-4750-4847-BB65-80D29FD3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F97B-C656-4E70-A8CA-68ABCD4A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B54E-FB4A-4B75-B448-30128094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9529-8965-4FBE-AF8B-7DD47B33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DC98-E2D3-4681-9A80-55458434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5448-DDAF-48C4-B0F5-3B234599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C363-670E-45BB-A729-F29370E2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F6CE-049D-436E-88F9-4E3B8CEE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0C25-7FE9-4A7D-9E8E-ED2F850C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5634-892A-46ED-88A8-35F5E6EF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0F7D-E2FA-4A57-936A-E5612509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6B34-9643-471B-99B6-2EE963DB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CDF28-D4B9-4F34-BC4D-F1ED186F19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