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94556"/>
        <c:axId val="35125507"/>
      </c:barChart>
      <c:catAx>
        <c:axId val="19494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25507"/>
        <c:crosses val="autoZero"/>
        <c:auto val="1"/>
        <c:lblAlgn val="ctr"/>
        <c:lblOffset val="100"/>
        <c:noMultiLvlLbl val="0"/>
      </c:catAx>
      <c:valAx>
        <c:axId val="35125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94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445-CF78-4ED7-B57D-C2BB8871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850-129D-461F-B241-B7622C5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F43-6DDE-488C-A302-8EA55BC7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34F-151F-47C2-B208-762EB2B6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E9C-6FD7-49CE-BC1D-77AD3CAF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3D2-512F-48DA-A515-CB879EE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FCA-752D-4798-93FE-5FE2DA8B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464-8A3F-484A-AB19-DFB05A6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C15-3969-4600-A70D-AFC8DBEF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0FC-4CA4-42AA-8B73-A306EA1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302-4838-4597-91AE-04D0D1A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4D1-D739-46D9-ABD2-FC05739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5D8F5-57A5-4903-A504-51BDDD18A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