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4258"/>
        <c:axId val="37394051"/>
      </c:barChart>
      <c:catAx>
        <c:axId val="26104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4051"/>
        <c:crosses val="autoZero"/>
        <c:auto val="1"/>
        <c:lblAlgn val="ctr"/>
        <c:lblOffset val="100"/>
        <c:noMultiLvlLbl val="0"/>
      </c:catAx>
      <c:valAx>
        <c:axId val="37394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4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A2B-FEF4-4B04-BBD3-C0039F01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4AF-452E-4EFE-A8CB-0CE4E74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466-1055-418A-A060-6DEF10BB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14F-0CD5-4EA3-A376-41975D2A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10C-D512-4358-A80E-EA4E2DC6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BD0-A0EC-4C82-94A4-32F1E708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FFB-1FDF-44FC-83BD-E30B8EB0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981-71A5-46B7-B2A8-DB2B1FE7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36E-035D-4A21-9BBB-1687239B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87E-1839-4A7B-B9F9-E355780B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A13-B6EE-4C96-A3BE-1176F18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055-4759-4B33-AF71-453C264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C5A3-4CC0-4495-93EB-9668993D6D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