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45459"/>
        <c:axId val="24828302"/>
      </c:barChart>
      <c:catAx>
        <c:axId val="45945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28302"/>
        <c:crosses val="autoZero"/>
        <c:auto val="1"/>
        <c:lblAlgn val="ctr"/>
        <c:lblOffset val="100"/>
        <c:noMultiLvlLbl val="0"/>
      </c:catAx>
      <c:valAx>
        <c:axId val="24828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5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D4A-0BAD-49A1-B7AC-44ED6432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8DC-586A-4A7F-84CF-CEC19084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2C8-AA15-419A-BBA3-79279E0B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66C-539B-4C9C-B401-1F97D1C5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1B5-DA70-4391-BCE4-EB0A43C5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C02-29B4-4955-9FBA-C378C5A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00E-38C2-403F-8FA2-42C80D8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FC8-13E5-46AB-8A66-EC3B7DF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652-BBF1-439A-A2CC-C7F3DBCF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858-24CB-4636-9137-6D66DE8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F48-4F3A-409C-9499-D4DA26A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310-AEDA-47B1-AC5C-ABCE925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970D2-29D6-4627-8BEF-420E3FB398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