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93597"/>
        <c:axId val="28963398"/>
      </c:barChart>
      <c:catAx>
        <c:axId val="28593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63398"/>
        <c:crosses val="autoZero"/>
        <c:auto val="1"/>
        <c:lblAlgn val="ctr"/>
        <c:lblOffset val="100"/>
        <c:noMultiLvlLbl val="0"/>
      </c:catAx>
      <c:valAx>
        <c:axId val="28963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3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F6F-591B-4C8B-A2C6-CDEE8270F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57D-3383-4C6C-8FEF-7453DF9F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5FC8-44A5-4052-BC52-6D182B1C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BD8A-3558-4A44-A27E-6FFB4C24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83D-E0B1-42AF-9AC5-F04F78B3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469-25C4-44D2-BFA1-FA17353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A1E8-28F3-4D4B-B7FA-5F2AB726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391-1D0A-4CFF-AFA6-566E8329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A6C-8955-4D86-94B5-1243E08C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B9FF-D966-4185-B73E-F29D15B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7B51-91BC-47BA-9375-C1D15B05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87A-64F1-44A9-8C5B-A53CD80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1862C-DE02-4055-8D8B-4D3D2DF55A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