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62504"/>
        <c:axId val="40203734"/>
      </c:barChart>
      <c:catAx>
        <c:axId val="60362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03734"/>
        <c:crosses val="autoZero"/>
        <c:auto val="1"/>
        <c:lblAlgn val="ctr"/>
        <c:lblOffset val="100"/>
        <c:noMultiLvlLbl val="0"/>
      </c:catAx>
      <c:valAx>
        <c:axId val="40203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62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34ED-0115-4F09-92C4-0EDFD0E3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7F45-5FAE-4F85-9F6F-51536949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4F4A-4E01-4B12-AB13-410A58CF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237-3F3E-47BC-8B25-A3D4D250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4F7-879A-4FD2-8F4B-A10643EB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BDFD-DD46-4210-8199-83E1BCFF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F80-E93E-4A86-9B67-8029ACE1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ABE-23B8-4B48-9B4F-9EFC671A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E8F6-E5E7-470A-9BB7-794DE1BC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D54-C7B6-41D9-A744-F1D44847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CDF-38E1-4DDD-9B6D-4ED48300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4D5-6867-40AB-8BBE-483A2615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378DE-D7D2-4E60-8279-2C3D78D85F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