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40032"/>
        <c:axId val="65629111"/>
      </c:barChart>
      <c:catAx>
        <c:axId val="24240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29111"/>
        <c:crosses val="autoZero"/>
        <c:auto val="1"/>
        <c:lblAlgn val="ctr"/>
        <c:lblOffset val="100"/>
        <c:noMultiLvlLbl val="0"/>
      </c:catAx>
      <c:valAx>
        <c:axId val="65629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40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4CC-1CEC-4702-81BF-8A779D29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B09-27B9-454C-B0F4-2EC996C2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1AD-1CE0-4674-847A-C5E8F7C6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F22-B5BE-4D52-9751-13E07C64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901-2B89-46AD-B87A-74F39FBF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DF4-DA0F-4B33-8B7C-8C9C5122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815-663F-41F4-A737-79142357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469-E81E-49D8-9E61-BC8DA547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FEE-9CE2-462B-9095-4AA7B5CB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D46-0B56-4B35-BC03-DACA5357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E4D-2867-4940-8278-93267035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F82-1675-4829-A7F8-D6063D08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59BB8-BDA7-4DCE-A9ED-8B0145B014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