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19276"/>
        <c:axId val="81626986"/>
      </c:barChart>
      <c:catAx>
        <c:axId val="42319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26986"/>
        <c:crosses val="autoZero"/>
        <c:auto val="1"/>
        <c:lblAlgn val="ctr"/>
        <c:lblOffset val="100"/>
        <c:noMultiLvlLbl val="0"/>
      </c:catAx>
      <c:valAx>
        <c:axId val="81626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9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943-5D1A-4CB5-A096-45286CC9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421-4D3C-4775-AA9B-233FFE9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B87-F408-49C3-B1CC-BCA6CF1A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051-9142-4D2C-B498-5848E06A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ECF-FDC1-45AA-8D9F-02D5A7E2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198-4C63-496D-95A9-C8CF1AC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3ED-44DC-4FCC-AACF-0F93477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793-B2BA-42DC-8834-4383F2B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783-945E-4383-AA8F-B8A17CAC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8FF-B88F-4D6C-BBEF-9C5704A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BCB-DDDF-43B7-A17F-E32FC45B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54F-C9C7-4D9E-9F06-85B78F4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65373-E916-4A17-862A-9DE9073C7F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