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11633"/>
        <c:axId val="15215621"/>
      </c:barChart>
      <c:catAx>
        <c:axId val="93611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15621"/>
        <c:crosses val="autoZero"/>
        <c:auto val="1"/>
        <c:lblAlgn val="ctr"/>
        <c:lblOffset val="100"/>
        <c:noMultiLvlLbl val="0"/>
      </c:catAx>
      <c:valAx>
        <c:axId val="15215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11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858-E7B0-40E3-83C3-737FB089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845-4464-47C3-9E13-4C868A66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A2E-7DC7-4289-B423-DDF605EB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C16-F221-47E0-9AE5-16F6FE30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471-864A-4E47-835A-A2A26997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DA4-8DAF-4DD4-8CB4-03A38362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9CF-E500-4B38-B282-BF441291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056-0422-46D4-A2EE-A90BD2AE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0D3-4F17-4A0A-96B6-9FA3CA47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AD0-7AD4-424E-903E-D85E9EC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EA7-1C38-47DF-B1C6-6193258F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928-CE0F-4F3B-9823-A472902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E58C8-FC9F-4DD8-9FDE-F7EAF2AAD8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