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85603"/>
        <c:axId val="17797157"/>
      </c:barChart>
      <c:catAx>
        <c:axId val="67285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7157"/>
        <c:crosses val="autoZero"/>
        <c:auto val="1"/>
        <c:lblAlgn val="ctr"/>
        <c:lblOffset val="100"/>
        <c:noMultiLvlLbl val="0"/>
      </c:catAx>
      <c:valAx>
        <c:axId val="177971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5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3FF-F7ED-4D01-9AF6-C7E96DC6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B3D1-58E1-4074-8D6D-BB354F43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D17-4B69-4974-8D19-CEF855D7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45C-CA6A-4011-8F4E-E7EB7DDD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E4C-4EE0-46EA-B1B2-AE4848C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EFF-D4F0-4AD8-8095-1EA7D5C2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BD7-E5FB-4D5D-A518-BF398FB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FF4-2A5C-48EC-8442-87BFD9E5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0D6-6170-41E9-98C5-6457F38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46E-47C0-42AB-8D6C-8CA6976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0DC-1157-45B0-BA76-B711FA7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FFB-56A0-4AAA-AACF-4B829FB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435E4-C4AA-4CC9-95BF-C8B0FCB91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