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56350"/>
        <c:axId val="13352637"/>
      </c:barChart>
      <c:catAx>
        <c:axId val="42456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52637"/>
        <c:crosses val="autoZero"/>
        <c:auto val="1"/>
        <c:lblAlgn val="ctr"/>
        <c:lblOffset val="100"/>
        <c:noMultiLvlLbl val="0"/>
      </c:catAx>
      <c:valAx>
        <c:axId val="13352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56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C66-2D57-431A-89EC-478C360B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9E7-71E9-485D-B2FB-CB702834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5ED-844A-42EB-B39A-81E3CA84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595-04BA-42B4-BD4F-E0EB497F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757-743A-4B19-842B-CE229B2B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56C-231C-45F9-A5AD-8EE3E293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241-501D-415E-8849-3F39C035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7C5-72B3-4CA0-8EF3-5A8B766D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7F3-3ED1-4EC0-9655-1E40CA8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AD8-63BF-4D73-B692-EA14A1C3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DEF-733F-4A75-9318-124A0FE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A2C-8ABB-4894-B1A9-A6FE685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F798B-97D0-4B14-9390-0F0DA8D633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