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30333"/>
        <c:axId val="23389466"/>
      </c:barChart>
      <c:catAx>
        <c:axId val="34830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9466"/>
        <c:crosses val="autoZero"/>
        <c:auto val="1"/>
        <c:lblAlgn val="ctr"/>
        <c:lblOffset val="100"/>
        <c:noMultiLvlLbl val="0"/>
      </c:catAx>
      <c:valAx>
        <c:axId val="23389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30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EC4-7A5F-4D4C-9AB6-E615DFBB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05F-0CC3-4F6B-A8F4-03491E6B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722-1DA4-4DBE-BC93-E4BD12CD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787-29D9-4B32-81C7-F4002C4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70A-62CF-4EA1-945B-9E2C837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40-2535-4B44-AB0C-BA9F188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A31-254A-4CFA-9397-E7F29E8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1CC-159C-48B7-AE4E-70385D3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2D2-39E4-42DD-BFB0-DBEFC1D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CFC-FC96-4F4F-AE35-E446801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EB6-F50B-4BC4-9A6A-B37ACEA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317-4F39-4517-A278-C8AC754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2C01-F188-4EB2-B217-930FAD094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