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42668"/>
        <c:axId val="41026185"/>
      </c:barChart>
      <c:catAx>
        <c:axId val="39342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026185"/>
        <c:crosses val="autoZero"/>
        <c:auto val="1"/>
        <c:lblAlgn val="ctr"/>
        <c:lblOffset val="100"/>
        <c:noMultiLvlLbl val="0"/>
      </c:catAx>
      <c:valAx>
        <c:axId val="410261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42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CEF-B94A-43C0-97C8-BF5DB9812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F3C5-ADAC-43CE-B620-F37866D53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2EB1-8252-4FA3-AD06-2B402945B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048-8395-4636-8D57-4DA70071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3381-6389-4575-8BBC-395CDFBD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65C6-E074-4155-90B7-307CB8ED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E9B0-F1B4-4466-8A40-83AB42D64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7FF-4F80-4D36-AB57-2C69788C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21A-9548-459D-9AD2-5663F45E5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848-0984-43C5-B69C-358D99EB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871-7CE9-4BE1-AC43-41835649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B527-CAB1-4DD7-8BEE-02C11DF3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8A8C9-231D-49C2-88BF-63254D2A02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