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589646"/>
        <c:axId val="82637447"/>
      </c:barChart>
      <c:catAx>
        <c:axId val="415896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37447"/>
        <c:crosses val="autoZero"/>
        <c:auto val="1"/>
        <c:lblAlgn val="ctr"/>
        <c:lblOffset val="100"/>
        <c:noMultiLvlLbl val="0"/>
      </c:catAx>
      <c:valAx>
        <c:axId val="826374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896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6BED-70AB-4E3B-9F21-68F66DE2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A2CD-7500-491D-B33E-2CE510F9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844D-9FE5-4D8B-A956-193DF7BC4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FF2A-8395-4C68-A2B6-1C9A7CDB5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D718-C234-425F-B3D3-5935A014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FC55-3844-4BB7-A77B-EC745682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B5E1-7FDF-41C7-A7AA-DAFD9629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290F-694E-47FF-93D7-68D8AB8E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D186-85D5-461C-8D8A-3BC2C07A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81DF-F2B2-46BD-8B27-C7BD194B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2D6E-FAA9-4F44-9727-406DE416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1F85-B032-4753-A52B-A4C5E805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72702-505B-449D-AC03-DAD317EF52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